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4F3A-5048-4BD3-9174-02886185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664-4057-4D7D-8409-519C9C5D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3E75-75E9-4CD3-85BB-8FACCCE98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E0D-A70C-4AE7-B852-D7714C49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cmapspublic2.ihmc.us/rid=1L3S3GB98-1QBLTG2-1GQP/Protein%20synthesis.c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197-5E03-42C4-A132-7BA5286F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5F40-E1D8-48AE-8423-6A533545D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B43D-81F2-4E82-8AC6-6D876A2A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AA73-5925-4D29-BE46-7EA0409F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FDBB-96D8-4460-AF95-B8A8754EB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DB78-A11F-4D0F-9B9E-DF5BEEA85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E74-256A-4E51-900B-732B70D8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A37-A5D8-47DB-8EF5-E664BE1E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291-AAB4-4557-BA67-6FFE8C63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bioweb.uwlax.edu/genweb/molecular/theory/translation/translatio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E53F-3B25-4456-B8A7-1D44976D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99D3-ABDA-458A-8557-C4DAF5D74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bass.bio.uci.edu/~hudel/bs99a/lecture21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9D62-501E-4E93-A0C1-A49D770B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411-8AED-4EF8-8B89-DAB2BEAF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934-9EC4-48DC-839A-F804437F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7A54-CD7E-442E-88F2-9F1726F1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90E-D75D-44B5-94FC-C5ACE58D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B7C6-52BA-4099-9AFF-84809A66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 http://www.nobelprize.org/educational/medicine/dna/a/translation/trna_wobbl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4A3-7306-4D80-8747-3856560F8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from:http://www.mun.ca/biology/scarr/MGA2_03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9AAD-EBEA-4EC7-8647-90683A6C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34C-1CD3-4F77-9523-182F6232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56D-3A3C-4CAB-B6CB-6C698F3F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D95-DEE9-4AE5-8DA5-12E3FBC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65D-4190-490A-9999-D76CD7F4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175-977E-42EB-AE72-55DD93C6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8D3-845D-4061-BAD8-F45ADED8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A83-91B4-47E6-8D6D-2BF2124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F1F-5FD7-4BA3-ABB2-6183422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FCF-779F-42DF-9980-9EC929A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950-9CD7-4A6D-8C43-22EC207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498-06CA-493E-971D-07CDD54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03C-A47E-40D9-A820-E5E35948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EE3-4F6E-4800-BAAC-95DD82AD1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sites/0072507470/student_view0/chapter3/animation__how_translation_work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 Binding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minoacyl site): incoming aminoacyl tRNA bind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eptidyl site): where tRNA with the growing polypepti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it site): where tRNA leaves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Ribosome binding sites"/>
          <p:cNvPicPr/>
          <p:nvPr/>
        </p:nvPicPr>
        <p:blipFill>
          <a:blip r:embed="rId1"/>
          <a:stretch/>
        </p:blipFill>
        <p:spPr>
          <a:xfrm>
            <a:off x="998640" y="609480"/>
            <a:ext cx="714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recognizes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p of the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text_figure12"/>
          <p:cNvPicPr/>
          <p:nvPr/>
        </p:nvPicPr>
        <p:blipFill>
          <a:blip r:embed="rId1"/>
          <a:stretch/>
        </p:blipFill>
        <p:spPr>
          <a:xfrm>
            <a:off x="5410080" y="304812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translation_initiation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itiator tRNA (with methionine)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with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 (enzyme peptidyl transfer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ionine tRNA is released (E 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tRNA moves 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Translation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 binds to A site, polypeptide is released from P site, and the 2 subunits of the ribosome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translation_termination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highered.mheducation.com/sites/0072507470/student_view0/chapter3/animation__how_translation_work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coded in mRNA is translated to a polypeptid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2" descr="ribosome.jpg"/>
          <p:cNvPicPr/>
          <p:nvPr/>
        </p:nvPicPr>
        <p:blipFill>
          <a:blip r:embed="rId1"/>
          <a:srcRect l="15711" t="0" r="15711" b="0"/>
          <a:stretch/>
        </p:blipFill>
        <p:spPr>
          <a:xfrm>
            <a:off x="4140360" y="1700280"/>
            <a:ext cx="460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vs. Prokary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mplex formed when multiple ribosomes attach to the same mRNA (in both types of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translation and transcription can happen at the same time, so protein synthesis can be much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olysome"/>
          <p:cNvPicPr/>
          <p:nvPr/>
        </p:nvPicPr>
        <p:blipFill>
          <a:blip r:embed="rId1"/>
          <a:stretch/>
        </p:blipFill>
        <p:spPr>
          <a:xfrm>
            <a:off x="860400" y="609480"/>
            <a:ext cx="742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peptide to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ypeptides are folded into their final protei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odifications include addition of molecules such as sugars, assembling of mutiple polypeptide chain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-90 nucleotides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ouble-helical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verleaf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is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trna_diagram"/>
          <p:cNvPicPr/>
          <p:nvPr/>
        </p:nvPicPr>
        <p:blipFill>
          <a:blip r:embed="rId1"/>
          <a:stretch/>
        </p:blipFill>
        <p:spPr>
          <a:xfrm>
            <a:off x="2316240" y="609480"/>
            <a:ext cx="45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acy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mino acids to the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d by aminoacyl-tRNA synthetas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flexible pairing between the first (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e of the anticodon and third (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tRNA_wobble"/>
          <p:cNvPicPr/>
          <p:nvPr/>
        </p:nvPicPr>
        <p:blipFill>
          <a:blip r:embed="rId1"/>
          <a:stretch/>
        </p:blipFill>
        <p:spPr>
          <a:xfrm>
            <a:off x="1986120" y="609480"/>
            <a:ext cx="517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MGA2-03-28"/>
          <p:cNvPicPr/>
          <p:nvPr/>
        </p:nvPicPr>
        <p:blipFill>
          <a:blip r:embed="rId1"/>
          <a:stretch/>
        </p:blipFill>
        <p:spPr>
          <a:xfrm>
            <a:off x="1357200" y="609480"/>
            <a:ext cx="64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ubunits: large and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ribosome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7-04-03T14:00:04Z</dcterms:modified>
  <cp:revision>137</cp:revision>
  <dc:subject/>
  <dc:title>PowerPoint Presentation</dc:title>
</cp:coreProperties>
</file>